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F41B-D741-4B96-AEBF-E4BE7BAAF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A8DA-23A5-4CEF-9B35-5721213D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7C4A-50C6-40F8-BCFC-1B5B29DD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5EC2-CF8A-4342-AEFD-0CDCC2E4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6AB0-4172-4CB1-B70A-BEEDF3CF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7FB0-5F6E-493B-901E-FF7D7DBD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5E8D-ADA4-4FBF-9803-F9EBEF08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716A-640A-4EC0-9FFC-2D102751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C114-F83D-47B8-939D-83BD309A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2E80-9620-437D-B740-09D68ED5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0464-DF5F-492D-A073-C394F9E0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094D-34E3-4AC0-A1BB-02FAAEE1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43D9-58D9-4F04-8D76-BB914DD2C96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684360" y="1484280"/>
            <a:ext cx="770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1700280"/>
            <a:ext cx="471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2924280"/>
            <a:ext cx="5689440" cy="1810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55e"/>
              </a:gs>
            </a:gsLst>
            <a:lin ang="8100000"/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66"/>
                </a:solidFill>
                <a:latin typeface="Arial"/>
              </a:rPr>
              <a:t>SPERIMENTAZIONE</a:t>
            </a:r>
            <a:br>
              <a:rPr sz="3200"/>
            </a:br>
            <a:r>
              <a:rPr b="0" lang="it-IT" sz="3200" spc="-1" strike="noStrike">
                <a:solidFill>
                  <a:srgbClr val="000066"/>
                </a:solidFill>
                <a:latin typeface="Arial"/>
              </a:rPr>
              <a:t>DE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66"/>
                </a:solidFill>
                <a:latin typeface="Arial"/>
              </a:rPr>
              <a:t>LINGUA INGLE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03280" y="836640"/>
            <a:ext cx="597708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3500000"/>
          </a:gra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66"/>
                </a:solidFill>
                <a:latin typeface="Arial"/>
              </a:rPr>
              <a:t>D.M. n. 100  18 settembre 200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Beltramini - 8 april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e8e8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55640" y="549360"/>
            <a:ext cx="698328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PIANO DI FORM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2276640"/>
            <a:ext cx="7129440" cy="44128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Arial"/>
              </a:rPr>
              <a:t>Docenti delle scuole sperimentatric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Arial"/>
              </a:rPr>
              <a:t>che insegnano  ai bamb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66"/>
                </a:solidFill>
                <a:latin typeface="Arial"/>
              </a:rPr>
              <a:t>compresi nella fascia di et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Arial"/>
              </a:rPr>
              <a:t>4 – 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Arial"/>
              </a:rPr>
              <a:t>a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Beltramini - 8 april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620640"/>
            <a:ext cx="8496000" cy="576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0066"/>
                </a:solidFill>
                <a:latin typeface="Arial"/>
              </a:rPr>
              <a:t>Insegnamento - apprendim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0066"/>
                </a:solidFill>
                <a:latin typeface="Arial"/>
              </a:rPr>
              <a:t>di primi elementi di lingua ingl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0066"/>
                </a:solidFill>
                <a:latin typeface="Arial"/>
              </a:rPr>
              <a:t>nell’ambito delle</a:t>
            </a:r>
            <a:r>
              <a:rPr b="0" lang="it-IT" sz="1800" spc="-1" strike="noStrike">
                <a:solidFill>
                  <a:srgbClr val="6600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0066"/>
                </a:solidFill>
                <a:latin typeface="Arial"/>
              </a:rPr>
              <a:t> “</a:t>
            </a:r>
            <a:r>
              <a:rPr b="1" lang="it-IT" sz="2000" spc="-1" strike="noStrike">
                <a:solidFill>
                  <a:srgbClr val="660066"/>
                </a:solidFill>
                <a:latin typeface="Arial"/>
              </a:rPr>
              <a:t>diverse attività di sezione e laboratoriali</a:t>
            </a:r>
            <a:r>
              <a:rPr b="0" lang="it-IT" sz="1800" spc="-1" strike="noStrike">
                <a:solidFill>
                  <a:srgbClr val="6600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0066"/>
                </a:solidFill>
                <a:latin typeface="Arial"/>
              </a:rPr>
              <a:t>nel quadro deg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0066"/>
                </a:solidFill>
                <a:latin typeface="Arial"/>
              </a:rPr>
              <a:t> “</a:t>
            </a:r>
            <a:r>
              <a:rPr b="1" lang="it-IT" sz="2000" spc="-1" strike="noStrike">
                <a:solidFill>
                  <a:srgbClr val="660066"/>
                </a:solidFill>
                <a:latin typeface="Arial"/>
              </a:rPr>
              <a:t>obiettivi generali del processo formativo</a:t>
            </a:r>
            <a:r>
              <a:rPr b="0" lang="it-IT" sz="1800" spc="-1" strike="noStrike">
                <a:solidFill>
                  <a:srgbClr val="6600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0066"/>
                </a:solidFill>
                <a:latin typeface="Arial"/>
              </a:rPr>
              <a:t>“</a:t>
            </a:r>
            <a:r>
              <a:rPr b="1" lang="it-IT" sz="2000" spc="-1" strike="noStrike">
                <a:solidFill>
                  <a:srgbClr val="660066"/>
                </a:solidFill>
                <a:latin typeface="Arial"/>
              </a:rPr>
              <a:t>molteplicità ordinata ed efficace di strumenti linguistici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660066"/>
                </a:solidFill>
                <a:latin typeface="Arial"/>
              </a:rPr>
              <a:t>di modalità rappresent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66"/>
                </a:solidFill>
                <a:latin typeface="Arial"/>
              </a:rPr>
              <a:t>(Indicazioni e Raccomandazioni Nazional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66"/>
                </a:solidFill>
                <a:latin typeface="Arial"/>
              </a:rPr>
              <a:t>per i Piani Personalizzati d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6666"/>
                </a:solidFill>
                <a:latin typeface="Arial"/>
              </a:rPr>
              <a:t>Attività Educ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Beltramini - 8 april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f8f8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35280" y="1628640"/>
            <a:ext cx="5689440" cy="223200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Arial"/>
              </a:rPr>
              <a:t>docen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Arial"/>
              </a:rPr>
              <a:t>lingua ingl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Arial"/>
              </a:rPr>
              <a:t>scuo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Arial"/>
              </a:rPr>
              <a:t>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Arial"/>
              </a:rPr>
              <a:t>sperimen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4292640"/>
            <a:ext cx="7920000" cy="1800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6666"/>
                </a:solidFill>
                <a:latin typeface="Arial"/>
              </a:rPr>
              <a:t>FINAL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66"/>
                </a:solidFill>
                <a:latin typeface="Arial"/>
              </a:rPr>
              <a:t>- miglioramento competenze linguist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66"/>
                </a:solidFill>
                <a:latin typeface="Arial"/>
              </a:rPr>
              <a:t>- sviluppo competenze metodologiche didatt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476280"/>
            <a:ext cx="4103640" cy="459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0099"/>
                </a:solidFill>
                <a:latin typeface="Arial"/>
              </a:rPr>
              <a:t>DESTINAT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Beltramini - 8 april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e8e8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43280" y="404640"/>
            <a:ext cx="3176640" cy="119124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Compete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lingui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comunic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50920" y="5084640"/>
            <a:ext cx="4631040" cy="119124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Incremento competenze pedagogiche, psicolinguistich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metodologico-didatt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2708280"/>
            <a:ext cx="2538360" cy="119124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atteggi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sperimentale      </a:t>
            </a:r>
            <a:r>
              <a:rPr b="1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pratiche rifle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84720" y="2421000"/>
            <a:ext cx="2864160" cy="173988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sviluppo capac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osservazio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◄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interpret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   </a:t>
            </a:r>
            <a:r>
              <a:rPr b="1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d</a:t>
            </a: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ocument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cont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346480" y="1257480"/>
            <a:ext cx="4378320" cy="4187520"/>
            <a:chOff x="2346480" y="1257480"/>
            <a:chExt cx="4378320" cy="4187520"/>
          </a:xfrm>
        </p:grpSpPr>
        <p:sp>
          <p:nvSpPr>
            <p:cNvPr id="56" name="_s9237"/>
            <p:cNvSpPr/>
            <p:nvPr/>
          </p:nvSpPr>
          <p:spPr>
            <a:xfrm>
              <a:off x="3684600" y="1852560"/>
              <a:ext cx="1701720" cy="170172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9238"/>
            <p:cNvSpPr/>
            <p:nvPr/>
          </p:nvSpPr>
          <p:spPr>
            <a:xfrm>
              <a:off x="4275000" y="1257480"/>
              <a:ext cx="52092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9249"/>
            <p:cNvSpPr/>
            <p:nvPr/>
          </p:nvSpPr>
          <p:spPr>
            <a:xfrm>
              <a:off x="4332240" y="2500200"/>
              <a:ext cx="1701720" cy="170208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9250"/>
            <p:cNvSpPr/>
            <p:nvPr/>
          </p:nvSpPr>
          <p:spPr>
            <a:xfrm>
              <a:off x="6203880" y="3138480"/>
              <a:ext cx="52092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9239"/>
            <p:cNvSpPr/>
            <p:nvPr/>
          </p:nvSpPr>
          <p:spPr>
            <a:xfrm>
              <a:off x="3684600" y="3147840"/>
              <a:ext cx="1701720" cy="170208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9240"/>
            <p:cNvSpPr/>
            <p:nvPr/>
          </p:nvSpPr>
          <p:spPr>
            <a:xfrm>
              <a:off x="4275000" y="5019840"/>
              <a:ext cx="52092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9241"/>
            <p:cNvSpPr/>
            <p:nvPr/>
          </p:nvSpPr>
          <p:spPr>
            <a:xfrm>
              <a:off x="3036960" y="2500200"/>
              <a:ext cx="1701720" cy="17020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9242"/>
            <p:cNvSpPr/>
            <p:nvPr/>
          </p:nvSpPr>
          <p:spPr>
            <a:xfrm>
              <a:off x="2346480" y="3138480"/>
              <a:ext cx="5205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203640" y="2997360"/>
            <a:ext cx="2592360" cy="4597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INTEGR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Beltramini - 8 april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e8e8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3998880" y="1228680"/>
            <a:ext cx="1077840" cy="4313160"/>
            <a:chOff x="3998880" y="1228680"/>
            <a:chExt cx="1077840" cy="4313160"/>
          </a:xfrm>
        </p:grpSpPr>
        <p:sp>
          <p:nvSpPr>
            <p:cNvPr id="66" name="_s8203"/>
            <p:cNvSpPr/>
            <p:nvPr/>
          </p:nvSpPr>
          <p:spPr>
            <a:xfrm>
              <a:off x="4537080" y="3922560"/>
              <a:ext cx="0" cy="54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8202"/>
            <p:cNvSpPr/>
            <p:nvPr/>
          </p:nvSpPr>
          <p:spPr>
            <a:xfrm>
              <a:off x="3998880" y="446400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ddc1d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6666"/>
                  </a:solidFill>
                  <a:latin typeface="Arial"/>
                </a:rPr>
                <a:t>Azi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6666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8201"/>
            <p:cNvSpPr/>
            <p:nvPr/>
          </p:nvSpPr>
          <p:spPr>
            <a:xfrm flipV="1">
              <a:off x="4537080" y="2305080"/>
              <a:ext cx="0" cy="54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8200"/>
            <p:cNvSpPr/>
            <p:nvPr/>
          </p:nvSpPr>
          <p:spPr>
            <a:xfrm>
              <a:off x="3998880" y="122868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ddc1d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6666"/>
                  </a:solidFill>
                  <a:latin typeface="Arial"/>
                </a:rPr>
                <a:t>AZION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8197"/>
            <p:cNvSpPr/>
            <p:nvPr/>
          </p:nvSpPr>
          <p:spPr>
            <a:xfrm>
              <a:off x="3998880" y="284652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6666"/>
                  </a:solidFill>
                  <a:latin typeface="Arial"/>
                </a:rPr>
                <a:t>Azi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6666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395280" y="501336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4360" y="104292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59640" y="227664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00"/>
                </a:solidFill>
                <a:latin typeface="Arial"/>
              </a:rPr>
              <a:t>Forma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00"/>
                </a:solidFill>
                <a:latin typeface="Arial"/>
              </a:rPr>
              <a:t>prese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335772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00"/>
                </a:solidFill>
                <a:latin typeface="Arial"/>
              </a:rPr>
              <a:t>Formazione linguist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00"/>
                </a:solidFill>
                <a:latin typeface="Arial"/>
              </a:rPr>
              <a:t>on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16720" y="1720800"/>
            <a:ext cx="19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00"/>
                </a:solidFill>
                <a:latin typeface="Arial"/>
              </a:rPr>
              <a:t>Comenius 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867280" y="2133720"/>
            <a:ext cx="6494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16360" y="494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292360" y="3573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156360" y="2708280"/>
            <a:ext cx="936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867280" y="12589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00"/>
                </a:solidFill>
                <a:latin typeface="Arial"/>
              </a:rPr>
              <a:t>Certific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724360" y="1557360"/>
            <a:ext cx="4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765000"/>
            <a:ext cx="1851120" cy="1706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Arial"/>
              </a:rPr>
              <a:t>Promozi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Arial"/>
              </a:rPr>
              <a:t>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66"/>
                </a:solidFill>
                <a:latin typeface="Arial"/>
              </a:rPr>
              <a:t>bu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Arial"/>
              </a:rPr>
              <a:t>prat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56000" y="2565360"/>
            <a:ext cx="1295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834920" y="2637000"/>
            <a:ext cx="14436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96000" y="4365720"/>
            <a:ext cx="3097080" cy="18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Arial"/>
              </a:rPr>
              <a:t>Il bambi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Arial"/>
              </a:rPr>
              <a:t>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Arial"/>
              </a:rPr>
              <a:t>il su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Arial"/>
              </a:rPr>
              <a:t>process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Arial"/>
              </a:rPr>
              <a:t>d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Arial"/>
              </a:rPr>
              <a:t>apprendi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4437000"/>
            <a:ext cx="2520720" cy="1513080"/>
          </a:xfrm>
          <a:custGeom>
            <a:avLst/>
            <a:gdLst>
              <a:gd name="textAreaLeft" fmla="*/ 97920 w 2520720"/>
              <a:gd name="textAreaRight" fmla="*/ 2422800 w 2520720"/>
              <a:gd name="textAreaTop" fmla="*/ 97920 h 1513080"/>
              <a:gd name="textAreaBottom" fmla="*/ 1415160 h 1513080"/>
            </a:gdLst>
            <a:ahLst/>
            <a:rect l="textAreaLeft" t="textAreaTop" r="textAreaRight" b="textAreaBottom"/>
            <a:pathLst>
              <a:path w="35981" h="21600">
                <a:moveTo>
                  <a:pt x="0" y="0"/>
                </a:moveTo>
                <a:lnTo>
                  <a:pt x="35981" y="0"/>
                </a:lnTo>
                <a:lnTo>
                  <a:pt x="35981" y="21600"/>
                </a:lnTo>
                <a:lnTo>
                  <a:pt x="0" y="21600"/>
                </a:lnTo>
                <a:close/>
              </a:path>
              <a:path fill="lightenLess" w="35981" h="21600">
                <a:moveTo>
                  <a:pt x="0" y="0"/>
                </a:moveTo>
                <a:lnTo>
                  <a:pt x="35981" y="0"/>
                </a:lnTo>
                <a:lnTo>
                  <a:pt x="34581" y="1400"/>
                </a:lnTo>
                <a:lnTo>
                  <a:pt x="1400" y="1400"/>
                </a:lnTo>
                <a:close/>
              </a:path>
              <a:path fill="darken" w="35981" h="21600">
                <a:moveTo>
                  <a:pt x="35981" y="0"/>
                </a:moveTo>
                <a:lnTo>
                  <a:pt x="35981" y="21600"/>
                </a:lnTo>
                <a:lnTo>
                  <a:pt x="34581" y="20200"/>
                </a:lnTo>
                <a:lnTo>
                  <a:pt x="34581" y="1400"/>
                </a:lnTo>
                <a:close/>
              </a:path>
              <a:path fill="darkenLess" w="35981" h="21600">
                <a:moveTo>
                  <a:pt x="35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1" y="20200"/>
                </a:lnTo>
                <a:close/>
              </a:path>
              <a:path fill="lighten" w="35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00"/>
                </a:solidFill>
                <a:latin typeface="Arial"/>
              </a:rPr>
              <a:t>Compet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00"/>
                </a:solidFill>
                <a:latin typeface="Arial"/>
              </a:rPr>
              <a:t>Metodologi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00"/>
                </a:solidFill>
                <a:latin typeface="Arial"/>
              </a:rPr>
              <a:t>Moduli on-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00"/>
                </a:solidFill>
                <a:latin typeface="Arial"/>
              </a:rPr>
              <a:t>Itinerari diversific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5363640" y="4220640"/>
            <a:ext cx="792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076360" y="5516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Beltramini - 8 april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908000" y="1700280"/>
          <a:ext cx="6912000" cy="5057640"/>
        </p:xfrm>
        <a:graphic>
          <a:graphicData uri="http://schemas.openxmlformats.org/drawingml/2006/table">
            <a:tbl>
              <a:tblPr/>
              <a:tblGrid>
                <a:gridCol w="6912000"/>
              </a:tblGrid>
              <a:tr h="173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3200" spc="-1" strike="noStrike">
                          <a:solidFill>
                            <a:srgbClr val="ff99cc"/>
                          </a:solidFill>
                          <a:latin typeface="Arial"/>
                        </a:rPr>
                        <a:t>QUALI</a:t>
                      </a:r>
                      <a:r>
                        <a:rPr b="0" lang="it-IT" sz="3200" spc="-1" strike="noStrike">
                          <a:solidFill>
                            <a:srgbClr val="ff99cc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3200" spc="-1" strike="noStrike">
                          <a:solidFill>
                            <a:srgbClr val="ff99cc"/>
                          </a:solidFill>
                          <a:latin typeface="Arial"/>
                        </a:rPr>
                        <a:t>RISORSE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99cc"/>
                          </a:solidFill>
                          <a:latin typeface="Arial"/>
                        </a:rPr>
                        <a:t>PROGETTO BLEN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99cc"/>
                          </a:solidFill>
                          <a:latin typeface="Arial"/>
                        </a:rPr>
                        <a:t>E – learning Integrat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bcbd3"/>
                        </a:gs>
                      </a:gsLst>
                      <a:lin ang="13500000"/>
                    </a:gradFill>
                  </a:tcPr>
                </a:tc>
              </a:tr>
              <a:tr h="33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La Piattaforma INDI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(interfaccia con U.E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G.O.L.D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Rai Educat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Il tuto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(mediatore tra corsista e material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Altre risorse ……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Co-struire e pro-gettare percor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732720" y="260280"/>
            <a:ext cx="1152360" cy="1368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924360" y="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33360"/>
            <a:ext cx="1440000" cy="1258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79280" y="2924280"/>
            <a:ext cx="1428840" cy="142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Beltramini - 8 april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2608200" y="1455480"/>
            <a:ext cx="3857760" cy="3857760"/>
            <a:chOff x="2608200" y="1455480"/>
            <a:chExt cx="3857760" cy="3857760"/>
          </a:xfrm>
        </p:grpSpPr>
        <p:sp>
          <p:nvSpPr>
            <p:cNvPr id="95" name="_s6152"/>
            <p:cNvSpPr/>
            <p:nvPr/>
          </p:nvSpPr>
          <p:spPr>
            <a:xfrm>
              <a:off x="2608200" y="1455840"/>
              <a:ext cx="3857760" cy="3857400"/>
            </a:xfrm>
            <a:prstGeom prst="blockArc">
              <a:avLst>
                <a:gd name="adj1" fmla="val 14880000"/>
                <a:gd name="adj2" fmla="val 6720000"/>
                <a:gd name="adj3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6153"/>
            <p:cNvSpPr/>
            <p:nvPr/>
          </p:nvSpPr>
          <p:spPr>
            <a:xfrm rot="5400000">
              <a:off x="2608200" y="1455480"/>
              <a:ext cx="3857400" cy="3857760"/>
            </a:xfrm>
            <a:prstGeom prst="blockArc">
              <a:avLst>
                <a:gd name="adj1" fmla="val 14880000"/>
                <a:gd name="adj2" fmla="val 6720000"/>
                <a:gd name="adj3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6158"/>
            <p:cNvSpPr/>
            <p:nvPr/>
          </p:nvSpPr>
          <p:spPr>
            <a:xfrm rot="10800000">
              <a:off x="2608200" y="1455480"/>
              <a:ext cx="3857760" cy="3857400"/>
            </a:xfrm>
            <a:prstGeom prst="blockArc">
              <a:avLst>
                <a:gd name="adj1" fmla="val 14880000"/>
                <a:gd name="adj2" fmla="val 6720000"/>
                <a:gd name="adj3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6155"/>
            <p:cNvSpPr/>
            <p:nvPr/>
          </p:nvSpPr>
          <p:spPr>
            <a:xfrm rot="16200000">
              <a:off x="2608200" y="1455120"/>
              <a:ext cx="3857400" cy="3857760"/>
            </a:xfrm>
            <a:prstGeom prst="blockArc">
              <a:avLst>
                <a:gd name="adj1" fmla="val 14880000"/>
                <a:gd name="adj2" fmla="val 6720000"/>
                <a:gd name="adj3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6150"/>
            <p:cNvSpPr/>
            <p:nvPr/>
          </p:nvSpPr>
          <p:spPr>
            <a:xfrm>
              <a:off x="5235480" y="1697040"/>
              <a:ext cx="98928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6666"/>
                  </a:solidFill>
                  <a:latin typeface="Arial"/>
                </a:rPr>
                <a:t>Quadr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6666"/>
                  </a:solidFill>
                  <a:latin typeface="Arial"/>
                </a:rPr>
                <a:t> </a:t>
              </a:r>
              <a:r>
                <a:rPr b="1" lang="it-IT" sz="2200" spc="-1" strike="noStrike">
                  <a:solidFill>
                    <a:srgbClr val="006666"/>
                  </a:solidFill>
                  <a:latin typeface="Arial"/>
                </a:rPr>
                <a:t>di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6666"/>
                  </a:solidFill>
                  <a:latin typeface="Arial"/>
                </a:rPr>
                <a:t>sistem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6151"/>
            <p:cNvSpPr/>
            <p:nvPr/>
          </p:nvSpPr>
          <p:spPr>
            <a:xfrm>
              <a:off x="5237280" y="4081320"/>
              <a:ext cx="988920" cy="98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6666"/>
                  </a:solidFill>
                  <a:latin typeface="Arial"/>
                </a:rPr>
                <a:t>INDI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6154"/>
            <p:cNvSpPr/>
            <p:nvPr/>
          </p:nvSpPr>
          <p:spPr>
            <a:xfrm>
              <a:off x="2849400" y="1698480"/>
              <a:ext cx="989280" cy="98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6666"/>
                  </a:solidFill>
                  <a:latin typeface="Arial"/>
                </a:rPr>
                <a:t>Contest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6666"/>
                  </a:solidFill>
                  <a:latin typeface="Arial"/>
                </a:rPr>
                <a:t>class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6157"/>
            <p:cNvSpPr/>
            <p:nvPr/>
          </p:nvSpPr>
          <p:spPr>
            <a:xfrm>
              <a:off x="2852640" y="4084560"/>
              <a:ext cx="98928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6666"/>
                  </a:solidFill>
                  <a:latin typeface="Arial"/>
                </a:rPr>
                <a:t>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1835280" y="260280"/>
            <a:ext cx="5903640" cy="674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66"/>
                </a:solidFill>
                <a:latin typeface="Arial"/>
              </a:rPr>
              <a:t>E’ importante il racco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76920" y="1576440"/>
            <a:ext cx="1107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.M.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51640" y="278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88000" y="321300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R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88000" y="3573360"/>
            <a:ext cx="327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abora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806520" y="4724280"/>
            <a:ext cx="8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::::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5661000"/>
            <a:ext cx="151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D- 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95640" y="438480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03280" y="2781360"/>
            <a:ext cx="187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1A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1B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1C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12000" y="308916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10360" y="316080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58160" y="479736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59640" y="400536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lasse Virtu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Beltramini - 8 april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e8e8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00000" y="2781360"/>
            <a:ext cx="7488360" cy="367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INTEGR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RISORSE RAI EDUCATIONAL</a:t>
            </a:r>
            <a:br>
              <a:rPr sz="2400"/>
            </a:b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“DIVERT INGLESE”</a:t>
            </a:r>
            <a:br>
              <a:rPr sz="2400"/>
            </a:b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SCHEDE DIDATT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p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UTILIZZO CURRICOL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843280" y="333360"/>
            <a:ext cx="3168720" cy="1870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95280" y="333360"/>
            <a:ext cx="1882800" cy="1871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6443640" y="260280"/>
            <a:ext cx="2449440" cy="172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Beltramini - 8 april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7:23:25Z</dcterms:created>
  <dc:creator> </dc:creator>
  <dc:description/>
  <dc:language>en-US</dc:language>
  <cp:lastModifiedBy> </cp:lastModifiedBy>
  <dcterms:modified xsi:type="dcterms:W3CDTF">2003-06-02T15:04:26Z</dcterms:modified>
  <cp:revision>95</cp:revision>
  <dc:subject/>
  <dc:title>Diapositiva 1</dc:title>
</cp:coreProperties>
</file>